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0F9D-EC22-42F7-98A8-A3A91D38C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D85B-F7E8-4571-BC3B-9C2C7F13B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87AF-4A72-4C11-B677-1BC7EB590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64A1-A3A5-416D-91D7-63FC66CA9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E16C7-B758-4F3B-BFA9-31C5E2773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4FCF0-5CD9-4695-BE82-CB9754B86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F82C0-1001-47CB-8461-77DF267BB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838F5-595A-4096-A81D-DE4CDBCF3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A2762-B849-4F59-A119-F7F17B903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6C032-BC23-458C-8573-2D8E2B22B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D1C03-FBB0-4EB7-80CA-2D72C63C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E140-F0AC-4EAC-9437-E691A4185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558FB-6EF4-4000-8D91-4B06435D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75A7E-9697-465B-B7C0-EC123DF2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4228C-AED0-44E6-89CB-B6248451E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03F80-D42B-407F-914A-C933D3BFF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13002-7D86-4DDC-AF96-31C7C931A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B2E3-B746-45E9-A89A-4693EA807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0655-95FB-4489-B314-3CB1B378C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939C-DEFF-4B64-8780-F9ECABC1F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469D-7D48-48DD-AE52-34FC04A3E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350F-6706-45A3-A55B-B8FA32BB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A182-07B2-4222-9362-F0CA7BDA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9A12-DD81-4171-AF59-8518B0B3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ADC1F-7C9A-4B3C-B1D5-B8BC016662E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0AE58-10A3-475C-B057-8C8A0D2BB99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98064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Основные направления деятельности ПМПК на современном этапе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635280" y="5035680"/>
            <a:ext cx="530856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Председатель ПМПК г. Казани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Июдина Светлана Владимировна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для детей, обучающихся в специальных образовательных учреждениях 8 вида (умственно отсталые) школа №61, №142, №76, школа-интернат №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«Обучение по адаптированной основной образовательной программе общего образования для учащихся с интеллектуальной недостаточность (лёгкой, умеренной, глубокой) степени в …. класс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Для детей с умственной отсталостью, но обучающихся в общеобразовательной школе мы рекомендуе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«Обучение по адаптированной образовательной программе общего образования с учётом индивидуальных психофизических особенностей, обусловленных лёгкой интеллектуальной недостаточностью в … классе»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Основные направления деятель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) проведение обследования детей в возрасте от 0 до 18 лет в целях своевременного выявления особенностей в физическом или психическом развитии или отклонений в поведени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) подготовка по результатам обследования рекомендаций по оказанию детям психолого-медико-педагогической помощи и организации их обучения и воспитания, подтверждение, уточнение или изменение ранее данных комиссией рекомендаций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) оказание консультативной помощи родителям (законным представителям) детей, работникам образовательных учреждений, учреждений социального обслуживания, здравоохранения, других организаций по вопросам воспитания, обучения и коррекции нарушений развития детей с ограниченными возможностями здоровья и девиантным поведением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) оказание учреждениям медико-социальной экспертизы содействия в разработке индивидуальной программы реабилитации ребенка-инвалид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26920" y="2492280"/>
            <a:ext cx="76932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существление учета данных о детях с ограниченными возможностями здоровья и (или) девиантным (общественно опасным) поведением, проживающих в г. Казан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е) подготовка рекомендаций обучающимся 9, 11 классов с ограниченными возможностями здоровья о форме сдачи государственной итоговой аттестаци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Обучающийся с ОВЗ это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«Физическое лицо, имеющее недостатки в физическом или психологическом развитии, подтверждённые ПМПК и препятствующие получению образования без создания специальных условий». (ст. 2 Федерального закона «Об образовании в РФ»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группу школьников с ОВЗ входят дети с различными нарушениями слуха, зрения, речи, опорно-двигательного аппарата, интеллекта, расстройствами аутистического спектр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Пакет документов, предоставляемых на ПМПК при определении формы сдачи ГИА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Копия паспорта или свидетельства о рождении ребёнк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Копия справки, подтверждающей факт инвалидности (при наличии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ыписка из домовой книги о составе семь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Характеристика обучающегос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ыписка из решения педсовета школы о направлении ребёнка на ПМПК с целью определения формы сдачи ГИ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Копия справки о домашнем обучении (при наличии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риказ о домашнем обучении (при наличии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правка от врача-психиатра с развёрнутым диагнозом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ля детей с нарушением слуха – направление сурдолога с развёрнутым диагнозом и данными о восприятии шёпотной речи, аудиометрическое обследование (аудиограмма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ля детей с нарушением зрения – направление окулиста с развёрнутым диагнозом и указанием остроты зре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ля детей с нарушением опорно-двигательного аппарата – направление невролога с развёрнутым диагнозо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Условия, необходимые для перевода ребёнка из одной образовательной организации в другую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4000" y="2361960"/>
            <a:ext cx="828036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первое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наличие у ребёнка умственной отсталости, подтверждённое заключением районного врача психиатра (заключение платных специалистов не принимаются!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второе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стойкое неусвоение основной общеобразовательной программы, подтверждённое итоговыми оценками за каждую четверть и за год (не менее 2 – 3 двоек!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На ПМПК могут быть направлены школьники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с 1 по 4 класс включительно!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ородская комиссия начинает приём учеников общеобразовательных школ с ноября по итогам 1 четверти в течение всего календарного года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Республиканская ПМПК принимает детей г. Казан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997000"/>
            <a:ext cx="3013200" cy="30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 5 по 20 ма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о 2 по 10 июн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оследние 3 недели август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51280" y="2362320"/>
            <a:ext cx="496872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ледовательно перевод ребёнка из одной образовательной организации в другую осуществляется только на следующий учебный год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Т.е. не зависимо от того, когда ребёнок прошёл городскую комиссию, учебный год он доучивается в своей школ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747360" y="828360"/>
            <a:ext cx="7797960" cy="8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Основная цель ПМПК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900000" y="2361960"/>
            <a:ext cx="763128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воевременное выявление детей с особенностями в физическом или психическом развитии или отклонениями в поведении, проведение их комплексного психолого-медико-педагогического обследования и подготовка по результатам обследования рекомендаций по оказанию им психолого-медико-педагогической помощи и организации их обучения и воспитания, а также подтверждения, уточнения или изменения ранее данных рекомендаций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Пакет документов, предоставляемых на ПМПК при переводе ребёнка из одной образовательной организации в другую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Копия свидетельства о рождении ребёнк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Копия справки, подтверждающей факт инвалидности (при наличии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ыписка из домовой книги о составе семь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ыписка из истории развития ребёнка (от участкового педиатра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Направление врача-психиатра на ПМПК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Характеристика от классного руководител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Рабочие тетради по русскому языку и математик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Табель успеваемости за четверть с выставленными двойками, а в конце года копия личного дела ученика, где не должно быть указано, что ребёнок переведён в следующий класс, а в табеле успеваемости в четвертных, полугодовых, итоговых оценках выставлены не менее двух – трёх двоек по основным предмета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ыписка из решения педсовета о направлении ребёнка на ПМПК с целью определении дальнейшей программы обуче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Направление районного отдела образования на РПМПК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Наши координаты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 настоящий момент ПМПК осуществляет свою деятельность на базе средней общеобразовательной школы №168 и находится по адресу </a:t>
            </a:r>
            <a:r>
              <a:rPr b="1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ул. Годовикова, д.8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Телефон комиссии 240-98-94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Для достижения этой цели в ПМПК осуществляется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профессиональная комплексная диагностика, направленная на выявление актуальных и потенциальных возможностей развития детей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выбор или изменение образовательного маршрута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контроль эффективности разработанных рекомендаций в отношении  детей, прошедших обследование в ПМПК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Запросы родителей при обращении в ПМПК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Определение профиля дошкольного учрежде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Определение программы школьного обуче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Решение вопроса МСЭ (при оформлении или продлении инвалидности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олучение рекомендаций о форме сдачи ГИ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26920" y="2349000"/>
            <a:ext cx="76932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 2013 г. ПМПК не даёт рекомендаций о воспитании и обучении ребёнка в каком-либо конкретном учреждени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 компетенции комиссии определение </a:t>
            </a: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программы обучения ребёнка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ыбор образовательного учреждения остаётся за родителям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4000" y="2276280"/>
            <a:ext cx="828036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Городская ПМПК работает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весь календарный год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иём ведётся строго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по предварительной запис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аписаться можно как по телефону, так и лично обратившись по месту работы комисси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иём осуществляется 2 раза в неделю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апись на приём и консультирование ведётся ежедневно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Коллегиальное заключение ПМПК включает в себя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11280" y="2361960"/>
            <a:ext cx="835344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Выводы о наличии либо отсутствии у ребёнка особенностей в физическом или психическом развитии или отклонений в поведении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Рекомендации по: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Определению формы получения образования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Определению образовательной программы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Форм и методов психолого-педагогической помощи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Созданию специальных условий для получения образования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Рекомендации ПМПК по определению образовательной программы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для детей, обучающихся в специальных образовательных учреждениях 1 – 2 вида (глухие и слабослышащие) – школа-интернат №6 им Ласточкиной; 3 – 4 вида (слепые и слабовидящие) – школа №172; 5 вида (тяжёлые нарушения речи) – школа-интернат №7; 6 вида (нарушения опорно-двигательного аппарата) – школа №78 и школа-интернат №4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«Обучение по адаптированной основной общеобразовательной программе (начального, основного, среднего) общего образования для учащихся с нарушением (слуха, зрения, речи, опорно-двигательного аппарата) в … класс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98192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для детей, имеющих нарушения слуха, зрения, речи, ОДА, но обучающихся в общеобразовательной школе мы рекомендуе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«Обучение по адаптированной образовательной программе (начального, основного, среднего) общего образования с учётом индивидуальных психофизических особенностей, обусловленных нарушением (слуха, зрения, речи, ОДА, эмоционально-волевой сферы) в … класс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7T11:25:08Z</dcterms:created>
  <dc:creator>Your User Name</dc:creator>
  <dc:description/>
  <dc:language>en-US</dc:language>
  <cp:lastModifiedBy>Your User Name</cp:lastModifiedBy>
  <dcterms:modified xsi:type="dcterms:W3CDTF">2015-12-03T09:21:44Z</dcterms:modified>
  <cp:revision>8</cp:revision>
  <dc:subject/>
  <dc:title>Слайд 1</dc:title>
</cp:coreProperties>
</file>